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6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7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8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2B89D-9DC8-4964-915D-15051AF45875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E9CEC-E34A-4789-BEE9-302BDD2FD945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223C8-45A9-4B42-BC8B-E41571A63A67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BA023-0556-4BAD-BDE4-7378F6A537C0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515B7-EC72-4669-B579-9157A0528E87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47F64-115F-4300-A8D1-815C5513AAB2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276CD-F3B6-48F9-BC60-DF68C87B8104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C2E58-4905-40EE-A917-EEE44FB726B2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EC172-290C-44EA-AA33-4E628E90EAC1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CC3BE-36B7-49F1-B95A-FC17154687C4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3A6B6-35C7-4F9F-97B5-41C6B2F4D5E5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15295-034B-4491-8660-78B7E3D496B1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246EB-A459-4DDD-9A06-3B02263B17A4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F2987-C512-4A39-9424-433B3CBDDF4A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03228-9BF2-40CC-935A-166F2F2E00E6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4C7B7-6ED2-415E-AA05-2CE6F89CC65F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24715-02D7-4D36-9F5E-345B20A824C4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CFF0E-4F52-4342-87FB-423FEACFA1D3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B2880-FB64-421A-BB2F-EC4F2D9B5634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F3423-1C48-43C6-B2E4-E154DA38AB20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04984-192A-4723-B064-D4721E348E8F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714A7-417E-4D33-8757-084925CAF6B4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5FDE7-580B-48F7-97A2-0A3AF266E0B6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A933F-FD06-49F7-BDF1-CBC749FE3888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A686D-A093-4779-BC5E-A4FF172A6AE3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F01E8-05C4-4ABA-BA11-438782E6477C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301C0-6486-45E4-AAE3-4C9738829E51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238B1-BC56-4E22-ABA8-7E404FCB79BC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78AC9-6341-4FA5-B193-29D0A9E54B9F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FD9B9-CE93-42BB-A08C-1BA96CBEC79B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D71C3-3ADF-4C39-A2F7-F385BDE9FE21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3ECD1-222A-46B8-83BE-DC172D5AD658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6D6A3-F22C-4EC0-A229-288304348A68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839B9-A3CB-4F81-9CC6-D2BD4590F8A7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66A9B-6DCE-4783-BDAC-823FEF3413CE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C633C-BDA8-4554-85B4-EC16EE648E10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020A5-9754-45F5-AA72-7A0AAF611CD7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61BDB-A1C7-42BE-9853-42D53EC1BCAC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E60A1-308E-4752-926E-5A01917C0BB9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6907C-A4E4-427E-869C-A16586144FF9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BFF9D-81CF-4F1A-AAC4-C4B78D91D1E9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63C-75CD-40F0-B28B-3CF98EDA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A0B-2205-47AD-8B73-AA8F7F0A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A49E8F-3295-443D-B949-BE42D0BF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75B294-1181-4A6B-9E80-D2E3DE14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6B51C7-6691-4080-88CB-66AC801C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F01F84-9B96-4795-B62D-3882001E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DDC3B4-199B-489A-8245-033F44B3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015F2D-6988-4A8D-BC55-70F0FF00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E943C3-7D21-4614-8EEE-A07AE7B8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76B41D-FC6F-47DD-B88B-6FFA1F81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505E6F-A111-46C9-9244-436358C3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D1119C-3C55-4C8A-96F2-AC14B6A5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A1C-F36D-4A46-B095-7DA03DA0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9E8985-FAEC-43E1-933F-BBE72CB6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5A7F6D-C44F-494F-8E83-8FA60521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DC6AF1-60C5-449E-A767-D94E164A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8AE1C2-4F3E-4BC2-ADF5-DAFD5876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BD5501-1BC1-488B-BF53-DE016871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777B8B-C965-484A-A428-B3177736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883DD2-E967-4498-8219-7C11CC42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04A078-57DD-46CA-8BC9-7AA184D6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1A978A-CF3C-4812-BAB9-B870CDA3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D04631-DB67-47DC-91B0-9339FF34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DC1-8B43-48B9-A059-86AF2563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3603A9-2380-473A-8277-B99633BA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474411-81CA-4046-9B43-6E709919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9F2780-F10D-4F76-92E3-5A936675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F9733A-1CE4-4C5D-A58F-2EAA9D09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BFCDD6-A1B4-4794-A835-7A10D376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18CAD9-FB13-4B1D-B73E-E531B857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C710EC-3DB1-49F5-95CF-81CFA712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E49203-1AA1-4E84-97BB-FBFE9FFA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3DEACF-B14B-457C-925E-4697C16A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B54B0B-8C4C-4BFE-BFF6-27C58390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3654D-29D9-49DC-9391-762544779B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A64C44-1402-4496-83D1-05954615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F11CEC-FABF-487F-9580-49D92BF5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9C91E1-58AE-430B-9148-B952CC71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7E8B83-CB6C-4D4B-925A-4FFEF9CE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13ACB8-4360-46AD-8FDB-5055A944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2CD1B8-D3C2-4527-B46F-9F9CB32F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C85FCE-CFEB-4988-9CB7-8F33DA37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C658C2-CAC3-4EA7-9F67-A75DB2F9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2DDF90-105B-4961-A9AB-FF7419B9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4125C7-B25B-497D-9B50-99DCEF1A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8DA67-886A-4F57-94B8-A2563767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39EA8B-96FA-4C91-BF39-DE2C2366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4EF845-C67C-43F2-A702-CE3479F5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6ACEC8-DBA8-4418-9DF5-B12AF0F7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32B1D6-3222-4B3B-AA87-A7DE7337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BF0A6E-7665-40F1-AEF2-4339F95D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EACF7-A180-410A-A8F4-13C1221F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145C4-41F8-470B-BDF4-549520C4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D78B7-B98F-4A82-972C-FCF3BB6C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5DA78-7990-42D1-94A5-6A6DA398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5CF91-CBE7-4D8C-9EE7-09BF109F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CFB-F221-4892-8A11-75C2A30A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49BBB-8E2A-4D0C-9562-4CE95737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E75AC-0E64-43D7-A417-A8B57A10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8593F-F1D5-4D0E-B343-9BC2850C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24D39-5C89-4F43-B649-BA20F20D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924EB-6724-41DB-9782-E630848253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9092B-5983-4B65-865C-038483C9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3BBA3-3B1C-4154-84B9-5F133031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25C2B-1183-4A82-BF16-624733AA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16E67-E700-4C1B-B521-F3D0F443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9563C-9690-4656-985E-CA31208A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784-54ED-40FE-93DB-5B4A9765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65DB8-3EBE-4196-892D-E246F511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B3746-0E88-4299-AEEF-23D3FBCA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34039-6031-4A82-87F7-5FDD1ABE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B6D52-E8F9-4C1D-A9A8-94F0D18A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869D2-F0A2-473C-9B97-139ED9E5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E444B-789F-4FCD-A7DE-183A5F36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6D0C1-3D40-4DF2-ACE8-38F37DFB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1EFE7B-7A04-457C-94CC-D616F271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823C4-C77C-4F8F-A3AA-9741BD32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338008-405E-4F48-A0B5-DE414C82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749-696C-4FDC-822E-E7423F53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095B7-D03F-43CD-8A35-0BC5E9F6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B40C2C-8CCC-4710-996B-19A9E964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285C9E-8CCF-46B0-BD5E-EEF378D4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83AB0-5F82-4A8D-B14D-44448316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D59618-EF95-4357-808A-D43AEBAF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54E3A-C8D1-447D-8051-1173BD70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CD3AE2-6626-42F3-986B-5292547E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11F7EE-B444-4434-ACB3-B58DEFD2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AB16BA-D636-47AA-9813-4B0C22A7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281F9-50FF-4774-8E6E-988B255B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5AB-3EA9-4769-A160-BA7FECD1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AC39F-62D3-46F4-9497-FD935A25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93E2F-BBC3-4748-8D9F-3FE5DE52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2BCE2-3D60-4170-B39E-43D31A5E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95EF24-277C-476C-872D-063132D6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E08FE2-BF88-4D09-804F-07988DD0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FC32B-8131-4357-B0D7-483F2215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87430-206A-4A36-8B3E-42AF3CAB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54F3EA-8D38-467B-86D9-3282A584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6DAAD-FDCC-4789-A362-9A528697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26AF4-FF23-461F-807E-5944B62F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610-9CEA-4BA4-9C23-9D39B5B0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F8FCF-B9E7-4583-87E5-F6E6EB54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58647-6362-416C-B759-9FAC4A1D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024500-B8CF-4189-8FE8-A23B4DCF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B32690-EFBB-4DCD-A97C-E779D05C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2CAF6E-29C7-4A4A-9200-3CC687A9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5B708B-EAEC-4813-8C8A-5DD500D7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F45EF-DB7F-4FAB-B38F-8C033900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934CB-51D4-4637-B0CB-11511F5B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AC2C9-17EB-4D3F-8787-5A8162C9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5C752C-93E6-4DC3-A4B4-932970F1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0EB-5964-429F-8196-3DD37148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46625-F847-4742-B4CE-39F40C23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78F9F-A79E-45DC-B67C-F3A87F42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20B4C3-7F33-4C0F-B6C4-4CA34875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DD652E-D80A-4531-8AEA-5EB01D9A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C131B-D8D4-41F7-9873-5EFBAB50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B6BC6-5C9E-487D-BD05-309DA12E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303520-948D-444E-94F7-3EDE101D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7F1A3-EB62-4972-B457-B1671BD3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CAA79F-7220-43C1-A1F4-BE2789FB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CEA28F-BE55-4F42-95B5-D7388C43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588-AE20-424C-B33A-1FCE6966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B9778-0C1D-43A7-8366-98418E84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D4E8B-AECE-4004-8875-5D888B14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85DB2-F226-4C0C-ACEC-E6EF16F1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F4F95D-F979-4F56-91B1-C88388C8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F0AE5-1CF1-4A3D-BE38-C4B7DA64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6DAEEB-1D4E-4DC3-9ECF-E33FFE0C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6AA399-515E-4C53-83F6-10C88A80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276B85-8D87-4128-B629-557D6254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50EDED-8A22-4A87-9231-B87D8C0A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146137-206E-43D5-BA36-6BE6766F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874-D6D4-433A-89FF-FA7A7B0A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73CEE4-DBCA-40A5-8F29-DADBECA5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CD5710-CE9D-495F-ABC7-8A591974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805A83-98CA-4F38-A8C9-54D60033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A84AA5-BDEB-439A-AE04-D4DAE62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434951-D162-4236-AE83-81BAC088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C744DA-347D-4A0A-9A02-46FBB3A8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87ADB4-4E26-43CA-A7A1-D5683AC9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223DE4-6576-443F-AC3A-D1C27E34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BB7240-234F-46D5-841F-853E0A50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7EA1A4-53BE-43D0-83F3-A2AC13EB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BE89-5506-476B-9A62-5A0BD961BEF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BC49-3F3B-4215-8E7E-10ED7E8DADB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90A9-F637-45DB-9CA8-E2B7CDDEEDE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E6A6-2756-402A-9120-BA98911589F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d7e4bd"/>
              </a:gs>
              <a:gs pos="100000">
                <a:srgbClr val="c3d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03DA-FB24-4045-BE94-A5591B54A8B5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8"/>
          </p:nvPr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0E01-ACAD-4EAD-BC71-3310153D5E39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d7e4bd"/>
              </a:gs>
              <a:gs pos="100000">
                <a:srgbClr val="c3d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0212-3987-40A6-8C9D-FA9F3753D1B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BFF8-8926-45D0-870C-E62439C55371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C81E-1676-454E-8057-5CB88F73AD2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8F74-42F8-44A1-A7AF-E370F4A2117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5A76-560B-46B8-BF77-41E154A8A919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047A-7106-4757-B287-1300FDCAB3A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ddf"/>
                </a:solidFill>
                <a:latin typeface="Gill Sans MT"/>
              </a:rPr>
              <a:t>WEB DEVELOPMENT &amp; DESIGN FOUNDATIONS  WITH  HTML5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609480" y="4114440"/>
            <a:ext cx="792504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Gill Sans MT"/>
              </a:rPr>
              <a:t>Chapter 1</a:t>
            </a:r>
            <a:br>
              <a:rPr sz="2800"/>
            </a:br>
            <a:r>
              <a:rPr b="0" lang="en-US" sz="2800" spc="-1" strike="noStrike">
                <a:solidFill>
                  <a:srgbClr val="eeece1"/>
                </a:solidFill>
                <a:latin typeface="Gill Sans MT"/>
              </a:rPr>
              <a:t>Key Concep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EAEA-1CF6-4003-8472-8BC89C22DC85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Rectangle 1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26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WEB ACCESSIBILITY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091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Accessible Websit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provides accommodations for individuals with visual, auditory, physical, and neurological disabiliti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WAI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W3C’s Web Accessibility Initiativ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http://www.w3.org/WAI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WCAG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Web Content Accessibility Guidelines</a:t>
            </a:r>
            <a:br>
              <a:rPr sz="30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http://www.w3.org/WAI/WCAG20/quickref/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AC83-F358-4FDB-8411-387579EADD80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6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WEB ACCESSIBILITY &amp; THE LAW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09120" y="13716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8000"/>
          </a:bodyPr>
          <a:p>
            <a:pPr marL="301680" indent="-2401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Americans with Disabilities Act (ADA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53760" indent="-2401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rohibits discrimination against people with disabiliti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01680" indent="-2401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01680" indent="-2401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ction 508 of the Rehabilitation Ac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53760" indent="-2401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equires that government agencies must give individuals with disabilities access to information technology that is comparable to the access available to others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653760" indent="-2401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http://www.section508.gov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8833-08D9-46FE-91DB-DF07216CB315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UNIVERSAL DESIGN FOR THE WEB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Universal Desig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 design of products and environments to be usable by all people, to the greatest extent possible, without the need for adaptation or specialized desig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AC33-4170-4C0D-A35B-86BD1BC28AFB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TextBox 4"/>
          <p:cNvSpPr/>
          <p:nvPr/>
        </p:nvSpPr>
        <p:spPr>
          <a:xfrm>
            <a:off x="403920" y="6248520"/>
            <a:ext cx="46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www.ncsu.edu/www/ncsu/design/sod5/cud/about_ud/about_ud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RELIABILITY &amp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INFORMATION ON THE WEB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Questions to Ask: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Is the organization credible?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How recent is the information?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Are there links to additional resources?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Is it Wikipedia?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124C-6408-45E5-80F6-6FA48FEA03C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CHECKPOINT 1.1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676160" y="137160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553680" indent="-4780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Describe the difference between the Internet and the Web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53680" indent="-4780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53680" indent="-4780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Explain three events that contributed to the commercialization and exponential growth of the Internet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53680" indent="-4780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53680" indent="-4780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s the concept of universal design important to web developers? Explain your answer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B27F-84C6-4E48-880C-A56CE223F14D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NETWORK OVERVIEW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1218960" y="14475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Networ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wo or more computers connected together for the purpose of communicating and sharing resources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DE64-080D-4D94-B354-9CA74393C222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242424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8" name="Picture 7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6478560" cy="222120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6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NETWORK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LAN – Local Area Network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Usually confined to a single building or group of building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AN – Wide Area Network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Usually uses some form of public or commercial communications network to connect computers is widely dispersed geographical area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54C0-C9C9-4091-8F6D-87A51DE3BBF7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INTERNET INFRASTRUCTU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990360" y="13492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Internet Backbo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A high capacity communication link that carries data gathered from smaller links that interconnect with it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B4F3-86E5-4AFE-B70A-93BBE76AF5C0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Box 1"/>
          <p:cNvSpPr/>
          <p:nvPr/>
        </p:nvSpPr>
        <p:spPr>
          <a:xfrm>
            <a:off x="180720" y="6324480"/>
            <a:ext cx="473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urce: http://www.alamo.edu/sac/library/faculty/deosdade/wwwtest2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8" name="Picture 9" descr="http://www.alamo.edu/sac/library/faculty/deosdade/IBMBACK2.JPG"/>
          <p:cNvPicPr/>
          <p:nvPr/>
        </p:nvPicPr>
        <p:blipFill>
          <a:blip r:embed="rId1"/>
          <a:stretch/>
        </p:blipFill>
        <p:spPr>
          <a:xfrm>
            <a:off x="1371600" y="2514600"/>
            <a:ext cx="6477120" cy="345132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8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THE CLIENT/SERVER MODEL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371240" y="1371600"/>
            <a:ext cx="719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Client/Server can describe a relationship between two computer programs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the "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client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" and the "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server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".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Clien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requests some type of service (such as a file or database access) from the server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fulfills the request and transmits the results to the client over a network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0634-7C19-46E0-AE05-999F3CBE1BEF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THE INTERNET CLIENT/SERVER MOD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990360" y="1218960"/>
            <a:ext cx="7194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ent – Web Browser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rver  –  Web Server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82D0-8327-43EC-B7F2-6B57451A2290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7" name="Picture 9" descr="Figure1"/>
          <p:cNvPicPr/>
          <p:nvPr/>
        </p:nvPicPr>
        <p:blipFill>
          <a:blip r:embed="rId1"/>
          <a:stretch/>
        </p:blipFill>
        <p:spPr>
          <a:xfrm>
            <a:off x="1143000" y="2496960"/>
            <a:ext cx="7043760" cy="381024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9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7305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ddf"/>
                </a:solidFill>
                <a:latin typeface="Gill Sans MT"/>
              </a:rPr>
              <a:t>LEARNING OUTCOME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523520" y="1294920"/>
            <a:ext cx="6782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n this chapter, you will learn how to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escribe the evolution of the Internet and the Web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Explain the need for web standard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escribe Universal Desig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Identify benefits of accessible web desig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Identify reliable resources of information on the Web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Identify ethical use of the Web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escribe the purpose of web browsers and web server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Identify networking protocol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efine URIs and domain nam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escribe HTML, XHTML, and HTML5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escribe popular trends in the use of the Web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A5B6-000D-49C5-B506-E7D076BB3738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WEB CLI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914040" y="2057040"/>
            <a:ext cx="8039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Connected to the Internet when neede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Usually runs web browser (client) soft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such as Internet Explorer or Firefox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Uses HTTP (Hypertext Transfer Protocol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Requests web pages from server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Receives web pages and files from server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BC1A-2834-43D3-A5AA-7B9F58276DEC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Picture 7" descr=""/>
          <p:cNvPicPr/>
          <p:nvPr/>
        </p:nvPicPr>
        <p:blipFill>
          <a:blip r:embed="rId1"/>
          <a:stretch/>
        </p:blipFill>
        <p:spPr>
          <a:xfrm>
            <a:off x="12600" y="0"/>
            <a:ext cx="1581120" cy="171468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7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WEB SERVER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8380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335880" indent="-2674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ontinually connected to the Interne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uns web server software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Gill Sans MT"/>
              </a:rPr>
              <a:t>(such as Apache or Internet Information Server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Uses HTTP (Hypertext Transfer Protocol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eceives request for the web pag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esponds to request and transmits status code, web page, and associated fil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AB06-579C-4FB7-93B3-635E40D8A955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379520" cy="17524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MIME TYP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Multi-Purpose Internet Mail Extens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a set of rules that allow multimedia documen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to be exchanged amo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many different computer systems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5E7C-FE44-4D94-B0F5-617D27A27A5A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INTERNET PROTOCO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Arial"/>
              </a:rPr>
              <a:t>Protoco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Rules that describe the methods used for clients and servers to communicate with each other over a network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here is no </a:t>
            </a:r>
            <a:r>
              <a:rPr b="0" i="1" lang="en-US" sz="2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single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protocol that makes the Internet and Web work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 number of protocols with specific functions are needed.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F9C9-2A0A-4EA7-A5EA-56042D359EB2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FTP</a:t>
            </a:r>
            <a:br>
              <a:rPr sz="3200"/>
            </a:b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FILE TRANSFER PROTOCO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2000"/>
          </a:bodyPr>
          <a:p>
            <a:pPr marL="315360" indent="-2512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A set of rules that allow files to be exchanged between computers on the Interne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5360" indent="-2512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Web developers commonly use FTP to transfer web page files from their computers to web server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5360" indent="-2512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FTP is also used to download programs and files from other servers to individual computers.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D70F-9981-4FFF-891F-EC06B6E04FAF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E-MAIL PROTOCO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371600" y="1294920"/>
            <a:ext cx="66038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2000"/>
          </a:bodyPr>
          <a:p>
            <a:pPr marL="315360" indent="-2512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 MT"/>
              </a:rPr>
              <a:t>Sending E-mail</a:t>
            </a:r>
            <a:endParaRPr b="0" lang="en-US" sz="3700" spc="-1" strike="noStrike">
              <a:solidFill>
                <a:srgbClr val="ffffff"/>
              </a:solidFill>
              <a:latin typeface="Gill Sans MT"/>
            </a:endParaRPr>
          </a:p>
          <a:p>
            <a:pPr lvl="1" marL="683280" indent="-2512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MTP Simple Mail Transfer Protocol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marL="315360" indent="-2512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 MT"/>
              </a:rPr>
              <a:t>Receiving E-mail</a:t>
            </a:r>
            <a:endParaRPr b="0" lang="en-US" sz="3700" spc="-1" strike="noStrike">
              <a:solidFill>
                <a:srgbClr val="ffffff"/>
              </a:solidFill>
              <a:latin typeface="Gill Sans MT"/>
            </a:endParaRPr>
          </a:p>
          <a:p>
            <a:pPr lvl="1" marL="683280" indent="-2512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POP (POP3) Post Office Protoco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1" marL="683280" indent="-2512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IMAP Internet Mail Access Protoco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2" marL="1051560" indent="-2509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 lvl="2" marL="1051560" indent="-2509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 lvl="2" marL="1051560" indent="-2509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29EF-0B17-4A8E-BD08-4C34826F3EAF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HTTP - HYPERTEXT TRANSFER PROTOCO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64920" y="129528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Arial"/>
              </a:rPr>
              <a:t>A set of rules for exchanging files such as text, graphic images, sound, video, and other multimedia files on the Web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Arial"/>
              </a:rPr>
              <a:t>Web browsers send HTTP requests for web pages and their associated files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Arial"/>
              </a:rPr>
              <a:t>Web servers send HTTP responses back to the web browsers.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32ED-000A-421D-A657-1A1893176619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8" name="Picture 9" descr="Figure1"/>
          <p:cNvPicPr/>
          <p:nvPr/>
        </p:nvPicPr>
        <p:blipFill>
          <a:blip r:embed="rId1"/>
          <a:stretch/>
        </p:blipFill>
        <p:spPr>
          <a:xfrm>
            <a:off x="2514600" y="2057400"/>
            <a:ext cx="3843360" cy="207972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1"/>
          <p:cNvSpPr/>
          <p:nvPr/>
        </p:nvSpPr>
        <p:spPr>
          <a:xfrm>
            <a:off x="3809880" y="2057400"/>
            <a:ext cx="1386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 requ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Rectangle 13"/>
          <p:cNvSpPr/>
          <p:nvPr/>
        </p:nvSpPr>
        <p:spPr>
          <a:xfrm>
            <a:off x="4052880" y="3352680"/>
            <a:ext cx="11430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4200480" y="3200400"/>
            <a:ext cx="709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Rectangle 1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66640" y="75960"/>
            <a:ext cx="857736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TCP/IP</a:t>
            </a:r>
            <a:br>
              <a:rPr sz="3200"/>
            </a:br>
            <a:r>
              <a:rPr b="1" lang="en-US" sz="2200" spc="-1" strike="noStrike">
                <a:solidFill>
                  <a:srgbClr val="f0eddf"/>
                </a:solidFill>
                <a:latin typeface="Gill Sans MT"/>
              </a:rPr>
              <a:t>TRANSMISSION CONTROL PROTOCOL/INTERNET PROTOCOL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143000" y="160020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TCP/IP has been adopted as the official communication protocol of the Interne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TCP and IP have different functions that work together to ensure reliable communication over the Internet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D24A-222D-443A-87A9-5878A7BA77BC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14000" y="75960"/>
            <a:ext cx="872964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TCP</a:t>
            </a:r>
            <a:br>
              <a:rPr sz="3600"/>
            </a:b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TRANSMISSION CONTROL PROTOCOL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6840" y="1523880"/>
            <a:ext cx="8489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Purpose is to ensure the integrity of communicatio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Breaks files and messages into individual units called packet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73F6-A938-421A-B475-D0FDF4BC9ED4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20667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1" name="Picture 7" descr="Figure1"/>
          <p:cNvPicPr/>
          <p:nvPr/>
        </p:nvPicPr>
        <p:blipFill>
          <a:blip r:embed="rId1"/>
          <a:stretch/>
        </p:blipFill>
        <p:spPr>
          <a:xfrm>
            <a:off x="304920" y="3352680"/>
            <a:ext cx="8667720" cy="175284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7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IP</a:t>
            </a:r>
            <a:br>
              <a:rPr sz="3200"/>
            </a:b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INTERNET PROTOCO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71240" y="17521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82600">
              <a:lnSpc>
                <a:spcPct val="7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  <a:ea typeface="Arial"/>
              </a:rPr>
              <a:t>A set of rules that controls how data is sent between computers on the Internet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P routes a packet to the correct destination address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he packet gets successively forwarded to the next closest router (a hardware device designed to move network traffic) until it reaches its destination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ttp://visualroute.visualware.com/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    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ttp://www.tracert.com/cgi-bin/trace.pl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832C-5B6A-4348-84D7-BCEFA2ED7F38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REASONS FOR</a:t>
            </a:r>
            <a:br>
              <a:rPr sz="3200"/>
            </a:b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INTERNET GROWTH IN THE 1990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447920" y="16765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318960" indent="-2538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emoval of the ban on commercial activi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2538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Development of the World Wide Web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by Tim Berners-Lee at CER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2538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Development of Mosaic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 first graphics-based web browser at NCSA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2538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ersonal computers were increasingly available and affordabl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2538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Online service providers offered low-cost connections to the Interne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096F-691E-49A8-AAAE-CA9C564A3D99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523880" y="1447560"/>
            <a:ext cx="7423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Each device connected to the Internet has a unique numeric IP address.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These addresses consist of a set of four groups of numbers, called octets. </a:t>
            </a:r>
            <a:br>
              <a:rPr sz="2800"/>
            </a:br>
            <a:br>
              <a:rPr sz="10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74.125.95.104</a:t>
            </a:r>
            <a:r>
              <a:rPr b="0" lang="en-US" sz="2800" spc="-1" strike="noStrike">
                <a:solidFill>
                  <a:srgbClr val="ffffff"/>
                </a:solidFill>
                <a:latin typeface="Sabon-Roman"/>
                <a:ea typeface="Arial"/>
              </a:rPr>
              <a:t> will get you Google!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n IP address may correspond to a domain name.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A8D6-D27D-4272-A361-FB1FDA5C667F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DOMAIN NAM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Arial"/>
              </a:rPr>
              <a:t>Locates an organization or other entity on the Internet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Domain Name System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Divides the Internet into logical groups and understandable nam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ssociates unique computer IP Addresses with the text-based domain names you type into a web browse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Browser: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ttp://google.com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P Address: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74.125.95.104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3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73EF-0EE1-4874-8170-0F74510D5796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UNIFORM RESOURCE IDENTIFIER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28600" y="12189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URI – Uniform Resource Identifier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identifies a resource on the Interne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URL – Uniform Resource Locator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a type of URI which represents the network location of a resource such as a web page, a graphic file, or an MP3 file. 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8C7E-2F4B-427F-9A9A-E3D4BCE999FF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236232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236232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0" name="Picture 9" descr="Figure1"/>
          <p:cNvPicPr/>
          <p:nvPr/>
        </p:nvPicPr>
        <p:blipFill>
          <a:blip r:embed="rId1"/>
          <a:stretch/>
        </p:blipFill>
        <p:spPr>
          <a:xfrm>
            <a:off x="914400" y="4038480"/>
            <a:ext cx="7189920" cy="160524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9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TLD</a:t>
            </a:r>
            <a:br>
              <a:rPr sz="3200"/>
            </a:b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TOP-LEVEL DOMAIN NAM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33160" y="1599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Arial"/>
              </a:rPr>
              <a:t>A top-level domain (TLD) identifies the right-most part of the domain name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urrent generic TLD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.com, .org, .net, .mil, .gov, .edu, .int, .aero, .asia, .cat, .jobs, .name, .biz, .mobi, .museum, .info, .coop, .post, .pro, .tel, .travel, .xxx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FB13-D357-42B6-929A-4B2C0514C15F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COUNTY CODE TLD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80520" y="1523520"/>
            <a:ext cx="8564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Two character codes originally intended to indicate the geographical location (country) of the web site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n practice, it is fairly easy to obtain a domain name with a country code TLD that is not local to the registran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.tv, .ws, .au, .jp, .uk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See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ttp://www.iana.org/cctld/cctld-whois.htm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E39D-24E6-4662-995E-9852B7B36B9B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DOMAIN NAME SYSTEM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85440" y="1143000"/>
            <a:ext cx="824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 Domain Name System (DNS) associat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Domain Names with IP addresses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2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CBDA-FC93-4B27-97C2-0C8E0DEDD0EA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70CD-013E-41CD-ADA8-9EE01C8F5FC0}" type="slidenum"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Rectangle 28"/>
          <p:cNvSpPr/>
          <p:nvPr/>
        </p:nvSpPr>
        <p:spPr>
          <a:xfrm>
            <a:off x="304920" y="3429000"/>
            <a:ext cx="2590560" cy="1143000"/>
          </a:xfrm>
          <a:prstGeom prst="rect">
            <a:avLst/>
          </a:prstGeom>
          <a:solidFill>
            <a:srgbClr val="9bbb5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Rectangle 25"/>
          <p:cNvSpPr/>
          <p:nvPr/>
        </p:nvSpPr>
        <p:spPr>
          <a:xfrm>
            <a:off x="304920" y="2133720"/>
            <a:ext cx="7315200" cy="1295280"/>
          </a:xfrm>
          <a:prstGeom prst="rect">
            <a:avLst/>
          </a:prstGeom>
          <a:solidFill>
            <a:srgbClr val="9bbb5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8"/>
          <p:cNvSpPr/>
          <p:nvPr/>
        </p:nvSpPr>
        <p:spPr>
          <a:xfrm>
            <a:off x="3352680" y="2743200"/>
            <a:ext cx="2057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3352680" y="2209680"/>
            <a:ext cx="20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ain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Line 10"/>
          <p:cNvSpPr/>
          <p:nvPr/>
        </p:nvSpPr>
        <p:spPr>
          <a:xfrm flipH="1">
            <a:off x="3276720" y="327672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Text Box 11"/>
          <p:cNvSpPr/>
          <p:nvPr/>
        </p:nvSpPr>
        <p:spPr>
          <a:xfrm>
            <a:off x="3557880" y="281952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3352680" y="4419720"/>
            <a:ext cx="22100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Text Box 13"/>
          <p:cNvSpPr/>
          <p:nvPr/>
        </p:nvSpPr>
        <p:spPr>
          <a:xfrm>
            <a:off x="2913840" y="3505320"/>
            <a:ext cx="29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TPC/I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nd HTTP 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2" name="Picture 14" descr="MCj04247900000[1]"/>
          <p:cNvPicPr/>
          <p:nvPr/>
        </p:nvPicPr>
        <p:blipFill>
          <a:blip r:embed="rId1"/>
          <a:stretch/>
        </p:blipFill>
        <p:spPr>
          <a:xfrm>
            <a:off x="6858000" y="4114800"/>
            <a:ext cx="1708200" cy="1778040"/>
          </a:xfrm>
          <a:prstGeom prst="rect">
            <a:avLst/>
          </a:prstGeom>
          <a:ln w="0">
            <a:noFill/>
          </a:ln>
        </p:spPr>
      </p:pic>
      <p:sp>
        <p:nvSpPr>
          <p:cNvPr id="753" name="Text Box 15"/>
          <p:cNvSpPr/>
          <p:nvPr/>
        </p:nvSpPr>
        <p:spPr>
          <a:xfrm>
            <a:off x="7806600" y="335268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2791800" y="4648320"/>
            <a:ext cx="38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TCP/I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nd HTTP Respons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web page files &amp; im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Line 17"/>
          <p:cNvSpPr/>
          <p:nvPr/>
        </p:nvSpPr>
        <p:spPr>
          <a:xfrm flipH="1">
            <a:off x="3429000" y="586728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6" name="Picture 18" descr="MCj04316420000[1]"/>
          <p:cNvPicPr/>
          <p:nvPr/>
        </p:nvPicPr>
        <p:blipFill>
          <a:blip r:embed="rId2"/>
          <a:stretch/>
        </p:blipFill>
        <p:spPr>
          <a:xfrm>
            <a:off x="1295280" y="4800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1" descr="MCj04315660000[1]"/>
          <p:cNvPicPr/>
          <p:nvPr/>
        </p:nvPicPr>
        <p:blipFill>
          <a:blip r:embed="rId3"/>
          <a:stretch/>
        </p:blipFill>
        <p:spPr>
          <a:xfrm>
            <a:off x="1143000" y="3048120"/>
            <a:ext cx="1523880" cy="1344600"/>
          </a:xfrm>
          <a:prstGeom prst="rect">
            <a:avLst/>
          </a:prstGeom>
          <a:ln w="0">
            <a:noFill/>
          </a:ln>
        </p:spPr>
      </p:pic>
      <p:sp>
        <p:nvSpPr>
          <p:cNvPr id="758" name="AutoShape 29"/>
          <p:cNvSpPr/>
          <p:nvPr/>
        </p:nvSpPr>
        <p:spPr>
          <a:xfrm>
            <a:off x="6248520" y="2209680"/>
            <a:ext cx="1066680" cy="838440"/>
          </a:xfrm>
          <a:prstGeom prst="flowChartMagneticDisk">
            <a:avLst/>
          </a:prstGeom>
          <a:solidFill>
            <a:srgbClr val="9bbb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22"/>
          <p:cNvSpPr/>
          <p:nvPr/>
        </p:nvSpPr>
        <p:spPr>
          <a:xfrm>
            <a:off x="330480" y="2209680"/>
            <a:ext cx="12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24"/>
          <p:cNvSpPr/>
          <p:nvPr/>
        </p:nvSpPr>
        <p:spPr>
          <a:xfrm>
            <a:off x="304920" y="6035760"/>
            <a:ext cx="2590560" cy="825480"/>
          </a:xfrm>
          <a:prstGeom prst="rect">
            <a:avLst/>
          </a:prstGeom>
          <a:solidFill>
            <a:srgbClr val="9bbb5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 Brows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lays web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AutoShape 30"/>
          <p:cNvSpPr/>
          <p:nvPr/>
        </p:nvSpPr>
        <p:spPr>
          <a:xfrm>
            <a:off x="6553080" y="2590920"/>
            <a:ext cx="1067040" cy="838080"/>
          </a:xfrm>
          <a:prstGeom prst="flowChartMagneticDisk">
            <a:avLst/>
          </a:prstGeom>
          <a:solidFill>
            <a:srgbClr val="9bbb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AutoShape 5"/>
          <p:cNvSpPr/>
          <p:nvPr/>
        </p:nvSpPr>
        <p:spPr>
          <a:xfrm>
            <a:off x="5791320" y="2514600"/>
            <a:ext cx="1143000" cy="838080"/>
          </a:xfrm>
          <a:prstGeom prst="flowChartMagneticDisk">
            <a:avLst/>
          </a:prstGeom>
          <a:solidFill>
            <a:srgbClr val="9bbb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24"/>
          <p:cNvSpPr/>
          <p:nvPr/>
        </p:nvSpPr>
        <p:spPr>
          <a:xfrm>
            <a:off x="6324480" y="6561000"/>
            <a:ext cx="28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305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MARKUP LANGUAGE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6840" y="1600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GML – Standard Generalized Markup Languag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A standard for specifying a markup language or tag set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HTML – Hypertext Markup Languag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The set of markup symbols or codes placed in a file intended for display on a web browser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C0E3-2DCE-40D5-B517-A6CF82817FF6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MARKUP LANGUAGES (2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533520" y="14475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XML – eXtensible Markup Language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A text-based language designed to describe, deliver, and exchange structured informatio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It is not intended to replace HTML –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it is intended to extend the power of HTML by separating data from presentation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0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C21C-52D0-418D-94EC-B85B3D5B6B9C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MARKUP LANGUAGES (3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04560" y="14475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Arial"/>
              </a:rPr>
              <a:t>XHTML – eXtensible Hypertext Markup Languag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Developed by the W3C as the reformulation of HTML 4.0 as an application of XML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It combines the formatting strengths of HTML 4.0 and the data structure and extensibility strengths of XML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4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0F41-A55C-403A-9B9F-1B3AFF5E9480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MARKUP LANGUAGES (4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60912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  <a:ea typeface="Arial"/>
              </a:rPr>
              <a:t>HTML 5 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Arial"/>
              </a:rPr>
              <a:t>The next version of HTML 4 and XHTM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ttp://www.w3.org/html/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85CB-D7DB-42CA-80CC-B7DC95946B75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THE  WORLD  WIDE  WEB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9907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The graphical user interface to information stored on computer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connected to the Internet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9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B51E-016E-4339-A773-039B190099E3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18" descr="C:\Users\DrMorris\AppData\Local\Microsoft\Windows\Temporary Internet Files\Content.IE5\S3AUFVY0\MP900424389[1].jpg"/>
          <p:cNvPicPr/>
          <p:nvPr/>
        </p:nvPicPr>
        <p:blipFill>
          <a:blip r:embed="rId1"/>
          <a:stretch/>
        </p:blipFill>
        <p:spPr>
          <a:xfrm>
            <a:off x="5394240" y="3889440"/>
            <a:ext cx="292104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CHECKPOINT 1.2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600200" y="13716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95440" indent="-5144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Frutiger-Italic"/>
              </a:rPr>
              <a:t>Describe the components of the client/server model as applied to the Internet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Frutiger-Italic"/>
              </a:rPr>
              <a:t>Identify two protocols used on the Internet to convey information that use the Internet but do not use the Web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Frutiger-Italic"/>
              </a:rPr>
              <a:t>Explain the similarities and differences between a URL and a domain name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2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D4F3-1ACB-49DB-AEBE-C818D8E29217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POPULAR USES OF THE INTERNE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ontinued importance of E-Commerc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Mobile Acces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Blo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ocial Networking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S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odcas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eb 2.0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6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1D0C-462B-4F6B-9758-CE9FC6744065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Arial"/>
              </a:rPr>
              <a:t>This chapter provided a brief overview of Internet, Web, and introductory networking concepts.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0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E209-4744-40AA-9960-3653DE12435B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INTERNET STANDARDS &amp; COORDINATION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599840" y="1447560"/>
            <a:ext cx="72709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329040" indent="-2620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 Internet Socie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13160" indent="-2620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 professional organization that provides leadership in addressing issues related to the future of the Interne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13160" indent="-2620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ETF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-- Internet Engineering Task Forc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097280" indent="-26172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RFC – Requests for Comm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13160" indent="-2620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AB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– Internet Architecture Boar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F6E1-7EC9-40DB-95D6-6EE8F7568E2D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659592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GROWTH OF THE INTERNE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28600" y="610236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ill Sans MT"/>
              </a:rPr>
              <a:t>http://www.internetworldstats.com/stats.htm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8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B40D-CA3D-4D84-8A83-7A6DE4460A80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9" name="Picture 8" descr="Figure1"/>
          <p:cNvPicPr/>
          <p:nvPr/>
        </p:nvPicPr>
        <p:blipFill>
          <a:blip r:embed="rId1"/>
          <a:stretch/>
        </p:blipFill>
        <p:spPr>
          <a:xfrm>
            <a:off x="152280" y="1371600"/>
            <a:ext cx="8898120" cy="419112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6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INTERNET STANDARDS &amp; COORDINATION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609480" y="1447560"/>
            <a:ext cx="8337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8260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ICANN -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he Internet Corporation for Assigned Numbers &amp; Nam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Non-profit organization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Main function is to coordinate the assignment of: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nternet domain nam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P address numb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Protocol paramet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Protocol port number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3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A032-2DD4-4FB8-A0D0-BAC3A8ED643C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INTRANET &amp; EXTRANE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ntrane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A private network contained within an organization or business used to share information and resources among coworker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Extrane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A private network that securely shares part of an organization’s information or operations with external partn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CB2E-71C5-4B20-95CA-5EFF00A0B04C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WEB STANDARDS </a:t>
            </a:r>
            <a:br>
              <a:rPr sz="3200"/>
            </a:b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AND THE W3C CONSORTIUM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523520" y="16765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W3C – World Wide Web Consortium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Develops recommendations and prototype technologies related to the Web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Produces specifications, called Recommendations, in an effort to standardize web technologies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WAI – Web Accessibility Initiative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8332-1E2A-4998-B87A-3788D9EC6714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02:49:49Z</dcterms:created>
  <dc:creator>Terry Felke-Morris</dc:creator>
  <dc:description/>
  <dc:language>en-US</dc:language>
  <cp:lastModifiedBy>Paradise, Cheryl</cp:lastModifiedBy>
  <dcterms:modified xsi:type="dcterms:W3CDTF">2013-08-20T17:01:29Z</dcterms:modified>
  <cp:revision>55</cp:revision>
  <dc:subject>Chapter 1</dc:subject>
  <dc:title>Web Developer &amp; Design Foundations with XHTML</dc:title>
</cp:coreProperties>
</file>